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5A36365-5163-433F-BDC3-7EEE78848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any way to adapt these games for older students to pl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4F687C9-6C56-424C-B336-0209B398CDC1}" type="slidenum">
              <a:rPr b="0" lang="en-US" sz="1200" spc="-1" strike="noStrike">
                <a:solidFill>
                  <a:srgbClr val="0c00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CD93C42-0BB6-4871-B78A-D6BDADFE0BF3}" type="slidenum">
              <a:rPr b="0" lang="en-US" sz="1200" spc="-1" strike="noStrike">
                <a:solidFill>
                  <a:srgbClr val="0c00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try a few mental math problems. We are going to do some mental math. No paper and pencils. No Calculato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0-6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626555E-7B9E-4331-B430-8CD0301EF1AA}" type="slidenum">
              <a:rPr b="0" lang="en-US" sz="1200" spc="-1" strike="noStrike">
                <a:solidFill>
                  <a:srgbClr val="0c00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kinds of activities do you think these children were engaged in prior to this less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D87F8AA-3B79-4A87-97C3-6E16C038400D}" type="slidenum">
              <a:rPr b="0" lang="en-US" sz="1200" spc="-1" strike="noStrike">
                <a:solidFill>
                  <a:srgbClr val="0c00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 + 27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08D1ABE-D4BC-40FE-BDB8-0C33F5241290}" type="slidenum">
              <a:rPr b="0" lang="en-US" sz="1200" spc="-1" strike="noStrike">
                <a:solidFill>
                  <a:srgbClr val="0c00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9983AED-45DA-4BA0-8061-A989E0C96554}" type="slidenum">
              <a:rPr b="0" lang="en-US" sz="1200" spc="-1" strike="noStrike">
                <a:solidFill>
                  <a:srgbClr val="0c00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73C3621-CE27-485B-8CE4-7577537FD408}" type="slidenum">
              <a:rPr b="0" lang="en-US" sz="1200" spc="-1" strike="noStrike">
                <a:solidFill>
                  <a:srgbClr val="0c00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gallery walk. Read post-its – no com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572E999-AAD9-4EE6-BE17-B3843AAE03C5}" type="slidenum">
              <a:rPr b="0" lang="en-US" sz="1200" spc="-1" strike="noStrike">
                <a:solidFill>
                  <a:srgbClr val="0c00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 on what we, as facilitators, did to make this a comfortable learning environme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anything we want to add to our norms chart from yesterd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405EA26-FE4D-4BEA-8D4B-84DCCF65221B}" type="slidenum">
              <a:rPr b="0" lang="en-US" sz="1200" spc="-1" strike="noStrike">
                <a:solidFill>
                  <a:srgbClr val="0c00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grades K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310E7EA-1A0D-427F-8D16-18CC8145051A}" type="slidenum">
              <a:rPr b="0" lang="en-US" sz="1200" spc="-1" strike="noStrike">
                <a:solidFill>
                  <a:srgbClr val="0c00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kinds of activities do you think these children were engaged in prior to this less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what you saw in the video connect to what you read about in the progres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726A3C7-5194-4C59-BB8D-0F32E976C2F3}" type="slidenum">
              <a:rPr b="0" lang="en-US" sz="1200" spc="-1" strike="noStrike">
                <a:solidFill>
                  <a:srgbClr val="0c00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67BA-1599-4128-9106-2DE5261BC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F1EC-D6D7-428D-A1A8-D0B35C5B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1B5B-C240-4D7A-A9F9-210566F7C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1324-4F41-4E80-B9E0-12BA3A84B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2A47-E9EB-4203-A5F2-2BD1D8412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6A91-684B-4640-9E28-EAF19B37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4FD6-75BF-49B3-9478-256516F1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19F5-A70E-4DCC-BC01-88C44C92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88B5-F41E-4312-9FF7-3BE12CFF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B4ED-B88E-406B-903F-A715D53C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D29B-7745-4BD5-A3B3-00F81DBE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D231-2E00-4F14-A9B9-5B8A52AA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6DF1B-66F8-4133-ADD7-CC1A067D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340A9-0DBB-4BAB-884D-020B4925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6803-9E9B-492A-85F0-C2E1A878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D6559-0336-4029-98D3-BE1D391CE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24ACF-B88A-4D4F-BF32-9C2E2A490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30CE90-74B7-44B6-BFF2-D428C4409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7FF5AB-C030-4146-9390-8AE84239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CE3416-1C07-41B9-839E-7C4463A6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1AF502-9C13-4C41-BF07-E0E65952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9C9AF3-C3DA-4960-95E2-B2228940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504A-E7C2-41FB-B930-09FC69A1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1FF437-9FB6-4E91-BF03-AC895844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FF5AC4-617F-4381-8500-EABADA0E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C3CB4F-522D-47EC-B093-9489BAA9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E5DC82-329A-4BE4-B50F-0690A81E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C093DF-E734-444D-8E8F-A02CB9CE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1B6484-D119-4145-B20F-0449CB3F7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643F16-061E-44D1-B9BE-B4592DF98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652F7-CF4E-44BE-8BB1-13B6435E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10C50-7DCC-490F-A665-91469362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4820A-0292-4D12-B322-EC0F4E39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ED17-687B-4938-8B6B-301E2DD6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6880D-BA5C-4F83-AB68-D11FE3CD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59E12-7226-46F7-AFF5-BD38A328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89B1F-1FF9-4B7A-B24D-13BBAD7F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40B1D-CAC0-49BE-983E-4C36759A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C6670-7BD0-4481-8BD1-A1055891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7F924-C264-4645-A479-25A257CF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B3AA4-2AD7-48B5-B822-C75F4FE1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D64F3-BAF4-4E6F-9E4B-395BDD45A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19ACB-775E-44E0-B618-31DFBB936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D16A9C-28E7-40FA-9C54-243709505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F173-0813-4EE4-B2B3-469EAD48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01C47D-C1C6-48B6-ADEE-ED9E2DEF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3510FA-6A61-4CF8-A68C-3C809EDF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4BE162-D4D9-4A7E-8553-465AEF37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654269-F257-479E-9F1D-EC827499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C82863-56B7-42A3-BCC1-4F4B52E5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7978C1-FFBC-49BC-895C-C8E61BBD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B849E3-31DF-4A5D-AD6B-D565BC0D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0AE45E-30BB-49CA-8464-59258B48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B56337-D950-45DF-A3D5-A9F30896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AFB4FD-9A72-48AA-84D1-F65306BC4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6917-CB73-4543-9680-91F4B427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D1463A-C8CF-47D1-9C4B-AF3EA24E6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3BBF95-52B4-4A4E-BF7B-E3B0B027D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E1D5AA-37A9-41EC-8CB1-42D03AA5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0759DC-6A4E-4DB7-8748-8E640E89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3B4D7C-23A4-4B3A-BC2C-897CB63C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5F7135-A514-46C6-B6D9-9BCD5F33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DB1AB1-922B-4E27-BDEF-FB27885A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475369-33C2-4E2D-A862-F0454568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8C0A82-EBBD-4288-9BF0-CADD8814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870BB4-DFBA-46F0-A487-EEBD0B72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CE72-0422-4527-92E7-F141CDB5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A60870-1B49-4E6D-93F1-9D8D5A27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67C167-32AE-4964-9028-9C76B9E38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9EFDE2-7BD1-40F1-B6D0-F041F4617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08C10C-D895-4E85-A7E0-98AED503A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5B0573-05FB-45C4-B4C0-E35C803E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E80887-3C58-4643-9FF8-C34EAEE0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1ABAFD-6B90-471B-8E0F-6480B7D6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6621C4-B552-4375-9584-A3F45BA6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B26442-ED25-47D1-A623-89E9C329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B6C845-0361-44B1-9F36-702F256A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3F7F-FCD3-4C0E-96E5-DC1488D6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6A70DA-7486-4501-B91B-73663D93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CD96A3-5F6D-40E9-AC7F-5A2B2467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C213B6-0124-4275-B3C7-23342667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DAD4E9-E7DD-4C1B-B557-9098C12A1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CD4D06-4271-4740-9E72-26D262AD1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7160-CDA6-426D-A34A-BBB85AED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0aaf1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902c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0aaf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2adb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c002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c002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66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Times New Roman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0a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20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0aaf1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20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20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0163-C917-4C97-A165-84E03EF9A34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0aaf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fcbf6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fcbf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7fa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0aaf1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7fa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0a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0aaf1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0a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0a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0aaf1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20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20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20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20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20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902c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0aaf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2adb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c002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c002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66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Times New Roman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7320-E1F6-464E-BA48-0641C83A8A7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0aaf1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0a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20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0aaf1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20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20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902c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0aaf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2adb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c002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c002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C82E-E0A8-4606-B08A-214B5E4CB4C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66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Times New Roman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6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0aaf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fcbf6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fcbf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7fa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0aaf1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7fa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0a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0aaf1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0a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0aaf1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20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20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20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20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20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0a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7c8fe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7c8fe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902c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0aaf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2adb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7c8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7c8fe"/>
                </a:solidFill>
                <a:latin typeface="Times New Roman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CE2D-6045-4E50-A9CF-1F4515DE847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0aaf1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0a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20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0aaf1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20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20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902c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0aaf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2adb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c002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c002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1B42-FAC2-4685-A345-DFE10F06EBC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66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Times New Roman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0aaf1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0a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20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20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0aaf1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20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20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902c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0aaf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2adb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c002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c002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30A3-D0C8-4F1E-BF6B-27308CD5317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66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Times New Roman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0a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20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c0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0aa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20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0a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20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902c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0aaf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2adb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c002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c002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63FE-CCBB-44BE-8AE8-8A45B897A79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66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Times New Roman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133360" y="1523520"/>
            <a:ext cx="56386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36626"/>
                </a:solidFill>
                <a:latin typeface="Century Schoolbook"/>
              </a:rPr>
              <a:t>NUMBER SENSE</a:t>
            </a:r>
            <a:endParaRPr b="0" lang="en-US" sz="54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59" name="Rectangle 6"/>
          <p:cNvSpPr/>
          <p:nvPr/>
        </p:nvSpPr>
        <p:spPr>
          <a:xfrm rot="5400000">
            <a:off x="707652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1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GAMES TO DEVELOP NUMBER SENSE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990360"/>
            <a:ext cx="7467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Play each of the games. After you play each game, answer the following questions: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c002c"/>
                </a:solidFill>
                <a:latin typeface="Century Schoolbook"/>
              </a:rPr>
              <a:t>What concept(s) is the focus of each game?</a:t>
            </a:r>
            <a:endParaRPr b="0" lang="en-US" sz="21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c002c"/>
                </a:solidFill>
                <a:latin typeface="Century Schoolbook"/>
              </a:rPr>
              <a:t>What tools might students use to support to solve the problems?</a:t>
            </a:r>
            <a:endParaRPr b="0" lang="en-US" sz="21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c002c"/>
                </a:solidFill>
                <a:latin typeface="Century Schoolbook"/>
              </a:rPr>
              <a:t>Discuss the strategies students might use. Might they reason with facts they know?? How might you promote the use of more efficient strategies? </a:t>
            </a:r>
            <a:endParaRPr b="0" lang="en-US" sz="21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86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457200" y="1143000"/>
          <a:ext cx="7543800" cy="1189080"/>
        </p:xfrm>
        <a:graphic>
          <a:graphicData uri="http://schemas.openxmlformats.org/drawingml/2006/table">
            <a:tbl>
              <a:tblPr/>
              <a:tblGrid>
                <a:gridCol w="3772080"/>
                <a:gridCol w="377172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Get to 1,000</a:t>
                      </a:r>
                      <a:endParaRPr b="0" lang="en-US" sz="1800" spc="-1" strike="noStrike">
                        <a:solidFill>
                          <a:srgbClr val="0c002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Simplified Krypto</a:t>
                      </a:r>
                      <a:endParaRPr b="0" lang="en-US" sz="1800" spc="-1" strike="noStrike">
                        <a:solidFill>
                          <a:srgbClr val="0c002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Leftovers with 15</a:t>
                      </a:r>
                      <a:endParaRPr b="0" lang="en-US" sz="1800" spc="-1" strike="noStrike">
                        <a:solidFill>
                          <a:srgbClr val="0c002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203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Adding Up the Deck </a:t>
                      </a:r>
                      <a:endParaRPr b="0" lang="en-US" sz="1800" spc="-1" strike="noStrike">
                        <a:solidFill>
                          <a:srgbClr val="0c002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Take Five, Make Ten</a:t>
                      </a:r>
                      <a:endParaRPr b="0" lang="en-US" sz="1800" spc="-1" strike="noStrike">
                        <a:solidFill>
                          <a:srgbClr val="0c002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duct Game</a:t>
                      </a:r>
                      <a:endParaRPr b="0" lang="en-US" sz="1800" spc="-1" strike="noStrike">
                        <a:solidFill>
                          <a:srgbClr val="0c002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203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GAMES TO DEVELOP NUMBER SENSE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3316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02c"/>
                </a:solidFill>
                <a:latin typeface="Century Schoolbook"/>
              </a:rPr>
              <a:t>What evidence will you look for to see if students understand the underlying mathematics of the game?</a:t>
            </a:r>
            <a:endParaRPr b="0" lang="en-US" sz="3200" spc="-1" strike="noStrike">
              <a:solidFill>
                <a:srgbClr val="0c002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02c"/>
                </a:solidFill>
                <a:latin typeface="Century Schoolbook"/>
              </a:rPr>
              <a:t>What evidence will you look for to see if students are using number sense as they play the game?</a:t>
            </a:r>
            <a:endParaRPr b="0" lang="en-US" sz="3200" spc="-1" strike="noStrike">
              <a:solidFill>
                <a:srgbClr val="0c002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90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6626"/>
                </a:solidFill>
                <a:latin typeface="Century Schoolbook"/>
              </a:rPr>
              <a:t>GAME EXPERT</a:t>
            </a:r>
            <a:endParaRPr b="0" lang="en-US" sz="32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371240"/>
            <a:ext cx="746748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02c"/>
                </a:solidFill>
                <a:latin typeface="Century Schoolbook"/>
              </a:rPr>
              <a:t>For the game assigned to your group, be prepared to discuss:</a:t>
            </a:r>
            <a:endParaRPr b="0" lang="en-US" sz="32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02c"/>
                </a:solidFill>
                <a:latin typeface="Century Schoolbook"/>
              </a:rPr>
              <a:t>Concept that is focus of game</a:t>
            </a:r>
            <a:endParaRPr b="0" lang="en-US" sz="32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02c"/>
                </a:solidFill>
                <a:latin typeface="Century Schoolbook"/>
              </a:rPr>
              <a:t>Strategies students might use</a:t>
            </a:r>
            <a:endParaRPr b="0" lang="en-US" sz="32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02c"/>
                </a:solidFill>
                <a:latin typeface="Century Schoolbook"/>
              </a:rPr>
              <a:t>Ways to determine if students are engaged in mathematics </a:t>
            </a:r>
            <a:endParaRPr b="0" lang="en-US" sz="32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02c"/>
                </a:solidFill>
                <a:latin typeface="Century Schoolbook"/>
              </a:rPr>
              <a:t>Questions you might ask students as they are playing the game</a:t>
            </a:r>
            <a:endParaRPr b="0" lang="en-US" sz="32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93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LEARNING PROGRESSION: K-5 NUMBER AND OPERATIONS IN BASE TEN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02c"/>
                </a:solidFill>
                <a:latin typeface="Century Schoolbook"/>
              </a:rPr>
              <a:t>Read the learning progression for the grade level assigned to you.</a:t>
            </a:r>
            <a:endParaRPr b="0" lang="en-US" sz="32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Make note of how it is connected to number sense, specifically, composing and decomposing numbers.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96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MENTAL MATH 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02c"/>
                </a:solidFill>
                <a:latin typeface="Century Schoolbook"/>
              </a:rPr>
              <a:t>When students solve a problem in their heads, they usually use what they know about place value, number relationships, patterns, and visual images to figure it out.</a:t>
            </a:r>
            <a:endParaRPr b="0" lang="en-US" sz="32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Problem context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Naked numbers 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99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304920" y="914400"/>
            <a:ext cx="7696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02c"/>
                </a:solidFill>
                <a:latin typeface="Century Schoolbook"/>
              </a:rPr>
              <a:t>1000 - 674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How is number sense used to determine whether an answer is reasonable or not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What purpose is served by the teacher accepting both correct and incorrect answers for the problem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How is the students’ role different from typical classrooms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Often subtraction is explained as “taking away.” Cole’s strategy does not remove or take away an amount; instead, he adds to solve the problem. Why does this work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Is there any evidence that students were engaged in the Standards for Mathematical Practice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02c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320"/>
            <a:ext cx="8229600" cy="81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MENTAL MATH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402" name="Footer Placeholder 3"/>
          <p:cNvSpPr/>
          <p:nvPr/>
        </p:nvSpPr>
        <p:spPr>
          <a:xfrm>
            <a:off x="8001000" y="2286000"/>
            <a:ext cx="662040" cy="33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c002c"/>
                </a:solidFill>
                <a:latin typeface="Arial"/>
              </a:rPr>
              <a:t>Math &amp; Science Collaborative </a:t>
            </a:r>
            <a:endParaRPr b="0" lang="en-US" sz="1100" spc="-1" strike="noStrike">
              <a:solidFill>
                <a:srgbClr val="0c002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c002c"/>
                </a:solidFill>
                <a:latin typeface="Arial"/>
              </a:rPr>
              <a:t>at the Allegheny Intermediate Unit</a:t>
            </a:r>
            <a:endParaRPr b="0" lang="en-US" sz="11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4678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VIDEO: 8 X 25 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762120"/>
            <a:ext cx="7848720" cy="57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The class had shared strategies for solving 8 x 25 before the teacher introduced the array model. Why do you think this instructional decision was made? How did she link previous strategies to this array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Noel incorrectly refers to columns as rows in the array. The teacher does not correct her. Why do you think she chose to ignore this error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How does the teacher connect the students’ additive thinking to multiplication? 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How does the array support student understanding of multiplication? The commutative property? The distributive property? The associative property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Is there any evidence that students were engaged in the Standards for Mathematical Practice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05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VIDEO: 150 ÷ 15, 300 ÷ 15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04560" y="990360"/>
            <a:ext cx="784836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How did this particular sequence of problems help students use number relationships to solve the problem?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What student confusions and misunderstandings surfaces from the array model?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How did the teacher navigate the discussion to build understanding about multiplication, division, and the array model?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Is there any evidence that students were engaged in the Standards for Mathematical Practice?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08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DEVELOPING NUMBER SENSE THROUGH REAL-LIFE SITUATIONS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c002c"/>
                </a:solidFill>
                <a:latin typeface="Century Schoolbook"/>
              </a:rPr>
              <a:t>How does thinking about numbers in real-life situations help develop and/or improve children’s number sense?</a:t>
            </a:r>
            <a:endParaRPr b="0" lang="en-US" sz="40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11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FLUENCY IN PA CORE STANDARDS 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413" name="Footer Placeholder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  <p:pic>
        <p:nvPicPr>
          <p:cNvPr id="414" name="Picture 2" descr=""/>
          <p:cNvPicPr/>
          <p:nvPr/>
        </p:nvPicPr>
        <p:blipFill>
          <a:blip r:embed="rId1"/>
          <a:srcRect l="29439" t="24528" r="28795" b="12500"/>
          <a:stretch/>
        </p:blipFill>
        <p:spPr>
          <a:xfrm>
            <a:off x="838080" y="749160"/>
            <a:ext cx="7086600" cy="600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6626"/>
                </a:solidFill>
                <a:latin typeface="Century Schoolbook"/>
              </a:rPr>
              <a:t>REFLECTING ON NUMBER SENSE</a:t>
            </a:r>
            <a:endParaRPr b="0" lang="en-US" sz="32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02c"/>
                </a:solidFill>
                <a:latin typeface="Century Schoolbook"/>
              </a:rPr>
              <a:t>Go to mscsummercourses2013.wikispaces.com and then to the number sense page.</a:t>
            </a:r>
            <a:endParaRPr b="0" lang="en-US" sz="3200" spc="-1" strike="noStrike">
              <a:solidFill>
                <a:srgbClr val="0c002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02c"/>
                </a:solidFill>
                <a:latin typeface="Century Schoolbook"/>
              </a:rPr>
              <a:t>Respond to the discussion prompt “Visual Representations”.</a:t>
            </a:r>
            <a:endParaRPr b="0" lang="en-US" sz="32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62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6626"/>
                </a:solidFill>
                <a:latin typeface="Century Schoolbook"/>
              </a:rPr>
              <a:t>SORTING ACTIVITY</a:t>
            </a:r>
            <a:endParaRPr b="0" lang="en-US" sz="44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416" name="Footer Placeholder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417" name="TextBox 3"/>
          <p:cNvSpPr/>
          <p:nvPr/>
        </p:nvSpPr>
        <p:spPr>
          <a:xfrm>
            <a:off x="914400" y="1981080"/>
            <a:ext cx="6934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c002c"/>
                </a:solidFill>
                <a:latin typeface="Arial"/>
              </a:rPr>
              <a:t>Sort the cards into two piles. Be ready to tell us how you sorted.</a:t>
            </a:r>
            <a:endParaRPr b="0" lang="en-US" sz="44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838224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36626"/>
                </a:solidFill>
                <a:latin typeface="Century Schoolbook"/>
              </a:rPr>
              <a:t>WHAT DOES FLUENCY MEAN TO YOU</a:t>
            </a:r>
            <a:endParaRPr b="0" lang="en-US" sz="4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419" name="Footer Placeholder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420" name="TextBox 3"/>
          <p:cNvSpPr/>
          <p:nvPr/>
        </p:nvSpPr>
        <p:spPr>
          <a:xfrm>
            <a:off x="838080" y="1828800"/>
            <a:ext cx="7010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c002c"/>
                </a:solidFill>
                <a:latin typeface="Arial"/>
              </a:rPr>
              <a:t>On a large post-it, write down your thoughts about fluency. What is it?</a:t>
            </a:r>
            <a:endParaRPr b="0" lang="en-US" sz="48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36626"/>
                </a:solidFill>
                <a:latin typeface="Century Schoolbook"/>
              </a:rPr>
              <a:t>NUMBER SENSE AND FLUENCY</a:t>
            </a:r>
            <a:endParaRPr b="0" lang="en-US" sz="36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c002c"/>
                </a:solidFill>
                <a:latin typeface="Century Schoolbook"/>
              </a:rPr>
              <a:t>How does number sense support the development of fluency?</a:t>
            </a:r>
            <a:endParaRPr b="0" lang="en-US" sz="40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23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PLANNING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02c"/>
                </a:solidFill>
                <a:latin typeface="Century Schoolbook"/>
              </a:rPr>
              <a:t>Plan task focusing on one standard and one standard for math practice involving the use of visuals to develop/extend number sense.</a:t>
            </a:r>
            <a:endParaRPr b="0" lang="en-US" sz="32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726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c002c"/>
                </a:solidFill>
                <a:latin typeface="Century Schoolbook"/>
              </a:rPr>
              <a:t>Include a mental math activity and a game. </a:t>
            </a:r>
            <a:endParaRPr b="0" lang="en-US" sz="29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26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02c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4678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HOMEWORK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228600" y="6854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Read pages 1 - 16 in </a:t>
            </a:r>
            <a:r>
              <a:rPr b="0" i="1" lang="en-US" sz="2800" spc="-1" strike="noStrike">
                <a:solidFill>
                  <a:srgbClr val="0c002c"/>
                </a:solidFill>
                <a:latin typeface="Century Schoolbook"/>
              </a:rPr>
              <a:t>Developing Number Sense, </a:t>
            </a: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and think about the following questions: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c002c"/>
                </a:solidFill>
                <a:latin typeface="Century Schoolbook"/>
              </a:rPr>
              <a:t>How does math talk support the development of number sense?</a:t>
            </a:r>
            <a:endParaRPr b="0" lang="en-US" sz="21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c002c"/>
                </a:solidFill>
                <a:latin typeface="Century Schoolbook"/>
              </a:rPr>
              <a:t>How do games support math talk?</a:t>
            </a:r>
            <a:endParaRPr b="0" lang="en-US" sz="2100" spc="-1" strike="noStrike">
              <a:solidFill>
                <a:srgbClr val="0c002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Read</a:t>
            </a:r>
            <a:r>
              <a:rPr b="0" i="1" lang="en-US" sz="2800" spc="-1" strike="noStrike">
                <a:solidFill>
                  <a:srgbClr val="0c002c"/>
                </a:solidFill>
                <a:latin typeface="Century Schoolbook"/>
              </a:rPr>
              <a:t> Why Children Have Difficulties Mastering the Basic Number Combinations and How to Help Them.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Complete task, if necessary.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Plan task focusing on one standard and one standard for math practice involving the use of visuals to develop/extend number sense.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Include a mental math activity and a game. 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c002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29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AGENDA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Response to wiki prompt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Sharing of Number Sense Visual Activity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Do these children have number sense? – videos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Games to Develop Number Sense 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Mental Math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Videos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Article discussion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Planning 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65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COMMUNITY OF LEARNERS 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Building a strong and supportive community of learners is essential in making number sense routines beneficial and productive for everyone.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tudents share out thinking 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Work through misunderstandings in front of peers 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Have time to think for themselves 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68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SHARING: NUMBER SENSE VISUAL ACTIVITY 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02c"/>
                </a:solidFill>
                <a:latin typeface="Century Schoolbook"/>
              </a:rPr>
              <a:t>With your group, share the activity you used.</a:t>
            </a:r>
            <a:endParaRPr b="0" lang="en-US" sz="32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How did the students respond to the activity?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What challenges, if any, did you encounter?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What role did the visual play in the success or challenge of the activity?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71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LEARNING PROGRESSION: K-5 OPERATIONS AND ALGEBRAIC THINKING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002c"/>
                </a:solidFill>
                <a:latin typeface="Century Schoolbook"/>
              </a:rPr>
              <a:t>Read the learning progression for the grade level assigned to you.</a:t>
            </a:r>
            <a:endParaRPr b="0" lang="en-US" sz="36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799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02c"/>
                </a:solidFill>
                <a:latin typeface="Century Schoolbook"/>
              </a:rPr>
              <a:t>Make note of how it is connected to number sense. </a:t>
            </a:r>
            <a:endParaRPr b="0" lang="en-US" sz="32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74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228240" y="530280"/>
            <a:ext cx="8381880" cy="586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02c"/>
                </a:solidFill>
                <a:latin typeface="Century Schoolbook"/>
              </a:rPr>
              <a:t>Grade 3: 4 x 7, 2 x 14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The teacher chooses to use a context as students consider the relationship between 4 x 7 and 2 x 14. How does this context help support student thinking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How is the commutative property addressed in the discussion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How do the teacher’s questions help students begin to build an understanding of doubling and halving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The teacher is continually assessing her students during the number talk. What student understanding and misconceptions will she use to guide her next instructional steps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Is there any evidence that students were engaged in the Standards for Mathematical Practice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How does what you saw in the video connect to what you read about in the progression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1920" y="7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DO THESE STUDENTS HAVE NUMBER SENSE?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77" name="Footer Placeholder 3"/>
          <p:cNvSpPr/>
          <p:nvPr/>
        </p:nvSpPr>
        <p:spPr>
          <a:xfrm>
            <a:off x="8077320" y="1219320"/>
            <a:ext cx="66204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c002c"/>
                </a:solidFill>
                <a:latin typeface="Arial"/>
              </a:rPr>
              <a:t>Math &amp; Science Collaborative </a:t>
            </a:r>
            <a:endParaRPr b="0" lang="en-US" sz="1100" spc="-1" strike="noStrike">
              <a:solidFill>
                <a:srgbClr val="0c002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c002c"/>
                </a:solidFill>
                <a:latin typeface="Arial"/>
              </a:rPr>
              <a:t>at the Allegheny Intermediate Unit</a:t>
            </a:r>
            <a:endParaRPr b="0" lang="en-US" sz="11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DO THESE STUDENTS HAVE NUMBER SENSE?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04560" y="1143000"/>
            <a:ext cx="8001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c002c"/>
                </a:solidFill>
                <a:latin typeface="Century Schoolbook"/>
              </a:rPr>
              <a:t>70 - 59</a:t>
            </a:r>
            <a:endParaRPr b="0" lang="en-US" sz="22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002c"/>
                </a:solidFill>
                <a:latin typeface="Century Schoolbook"/>
              </a:rPr>
              <a:t>How does the number line provide support for understanding </a:t>
            </a:r>
            <a:r>
              <a:rPr b="0" i="1" lang="en-US" sz="2200" spc="-1" strike="noStrike">
                <a:solidFill>
                  <a:srgbClr val="0c002c"/>
                </a:solidFill>
                <a:latin typeface="Century Schoolbook"/>
              </a:rPr>
              <a:t>Grant’s Constant Difference </a:t>
            </a:r>
            <a:r>
              <a:rPr b="0" lang="en-US" sz="2200" spc="-1" strike="noStrike">
                <a:solidFill>
                  <a:srgbClr val="0c002c"/>
                </a:solidFill>
                <a:latin typeface="Century Schoolbook"/>
              </a:rPr>
              <a:t>strategy? In what other ways could you model this strategy to help students understand why it works?</a:t>
            </a:r>
            <a:endParaRPr b="0" lang="en-US" sz="22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002c"/>
                </a:solidFill>
                <a:latin typeface="Century Schoolbook"/>
              </a:rPr>
              <a:t>The students share several subtraction strategies: </a:t>
            </a:r>
            <a:r>
              <a:rPr b="0" i="1" lang="en-US" sz="2200" spc="-1" strike="noStrike">
                <a:solidFill>
                  <a:srgbClr val="0c002c"/>
                </a:solidFill>
                <a:latin typeface="Century Schoolbook"/>
              </a:rPr>
              <a:t>Constant Difference, Adding Up, Removing in Chunks, and Adjusting One of the Numbers</a:t>
            </a:r>
            <a:r>
              <a:rPr b="0" lang="en-US" sz="2200" spc="-1" strike="noStrike">
                <a:solidFill>
                  <a:srgbClr val="0c002c"/>
                </a:solidFill>
                <a:latin typeface="Century Schoolbook"/>
              </a:rPr>
              <a:t>. Discuss how these strategies are similar and different?</a:t>
            </a:r>
            <a:endParaRPr b="0" lang="en-US" sz="22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002c"/>
                </a:solidFill>
                <a:latin typeface="Century Schoolbook"/>
              </a:rPr>
              <a:t>When Andrew shared his strategy, students were unsure whether 1 should be added or subtracted.  Share your observations about the student and teacher roles during the class discussion.  How could you help students understand his thinking?</a:t>
            </a:r>
            <a:endParaRPr b="0" lang="en-US" sz="22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002c"/>
                </a:solidFill>
                <a:latin typeface="Century Schoolbook"/>
              </a:rPr>
              <a:t>Is there any evidence that students were engaged in the Standards for Mathematical Practice?</a:t>
            </a:r>
            <a:endParaRPr b="0" lang="en-US" sz="22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80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IMPLICATIONS FOR TEACHING AND LEARNING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002c"/>
                </a:solidFill>
                <a:latin typeface="Century Schoolbook"/>
              </a:rPr>
              <a:t>What kinds of activities do you think these children were engaged in prior to these lessons?</a:t>
            </a:r>
            <a:endParaRPr b="0" lang="en-US" sz="3600" spc="-1" strike="noStrike">
              <a:solidFill>
                <a:srgbClr val="0c002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002c"/>
                </a:solidFill>
                <a:latin typeface="Century Schoolbook"/>
              </a:rPr>
              <a:t>What evidence is there that they used these tools prior to the lessons we viewed?</a:t>
            </a:r>
            <a:endParaRPr b="0" lang="en-US" sz="36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83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6T21:17:08Z</dcterms:created>
  <dc:creator>Talking Point Graphics, Inc. (502) 456-9800</dc:creator>
  <dc:description/>
  <dc:language>en-US</dc:language>
  <cp:lastModifiedBy>Miller, Andrea</cp:lastModifiedBy>
  <cp:lastPrinted>2013-10-17T12:30:50Z</cp:lastPrinted>
  <dcterms:modified xsi:type="dcterms:W3CDTF">2014-01-17T15:19:05Z</dcterms:modified>
  <cp:revision>90</cp:revision>
  <dc:subject/>
  <dc:title>BackToSchool</dc:title>
</cp:coreProperties>
</file>